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5B39-9F67-40A9-A378-77DDDA93C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6335-CACD-4518-B5EF-92DFD2C20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573D-1F79-427A-A95E-B152D02F8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4906F-5955-422D-AA89-3A7E5A82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E6E16-DAA5-4662-8D35-B0A2960C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BD28C-A630-4DB6-AAF8-67A44728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300B7-5A0E-4A86-A51A-309DCA62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2A80-564D-4E5F-A43C-A0672700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B019-664F-4814-9F11-98723F77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7617-7549-4288-A4D0-B9344F44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C58E-9334-44C3-9B44-246CDB15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6DC9-745E-4DEB-B6A0-F119D031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C03B-4490-4A1B-9AED-C5B3D9AE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3FCE-847E-42C0-9B7D-BD09C4DA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6776C-801D-4E64-B5B5-31560505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3AFE-C7BF-4B20-A570-5F9795D2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35BD-E4C5-4519-88C4-B3E7B01F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3549-6365-4D7F-AEC3-E6397732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F0B3-3522-48BE-9ABC-E2A02C19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9C86-0512-41E7-B3A8-7C512E88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9AE60-B53A-4F57-BBEE-DF7687A2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0054A-A058-425C-9240-7BA76AC7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D8105-DED9-46BB-BF3B-CF89124E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D3559-F49E-4911-B515-0AA3E38B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20AA3-5684-4DF1-B4E7-276FEE42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11F0A-59F4-4275-B4ED-06416AD7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9C73D-7EFF-4E1F-8DA0-8FD71AE3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AE3B-8063-4A49-9205-D69B647CA8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C9A8-1928-434A-8483-834866647D7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B415-1DA8-4741-8AE6-0ADE36ADF0E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A3A5-3B60-4E18-A67D-774A3FD1ED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F431-85C7-4205-9427-F3923151C4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Verdana"/>
              </a:rPr>
              <a:t>Checklist d’orie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r d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roduction à la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vue technique d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gnes de conduite clefs du pers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stème de gestion de la qualité a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criptif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te de débu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SITION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SPONSABL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35AB-5F60-41A2-81EF-9724389DE5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762120" y="1066680"/>
            <a:ext cx="800100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99"/>
                </a:solidFill>
                <a:latin typeface="Verdana"/>
              </a:rPr>
              <a:t>L’évaluation des performances peut plus mettre en lumière les opportunités d’amélioration pour le laboratoire que pour l’employ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MCj04260720000[1]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E8A3-0C70-4A1A-9F2C-4E4DA0181C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alifications et descriptif de po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3520" y="1219320"/>
            <a:ext cx="830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« La direction du laboratoire devrait avoir des descriptifs de  poste qui définissent les qualifications et les fonctions de tout le personnel. »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SO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2120" y="2819520"/>
            <a:ext cx="40384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éducation requ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ertificat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iplôme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é requises avant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é requises avant expé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mpétences requ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pécifie la hiérarc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pécifie les responsabili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ô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fo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ponsabi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structures d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762120" y="2438280"/>
            <a:ext cx="40384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Descriptif de 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CEF1-7BE4-4388-BE09-DF160F2155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Verdana"/>
              </a:rPr>
              <a:t>Évaluation des compétences Check-list 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ha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981080"/>
          <a:ext cx="8229600" cy="4543560"/>
        </p:xfrm>
        <a:graphic>
          <a:graphicData uri="http://schemas.openxmlformats.org/drawingml/2006/table">
            <a:tbl>
              <a:tblPr/>
              <a:tblGrid>
                <a:gridCol w="2743200"/>
                <a:gridCol w="1066680"/>
                <a:gridCol w="304920"/>
                <a:gridCol w="533520"/>
                <a:gridCol w="609480"/>
                <a:gridCol w="297180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 technic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édure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ément de procéd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u le manuel de procéd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du 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quipement dispon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 de travail pro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paration réac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 la tâche correct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 la tâche opportuné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92CE-63F5-4769-8466-09F4BF2376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Verdana"/>
              </a:rPr>
              <a:t>Évaluation des compétences Check-list</a:t>
            </a:r>
            <a:r>
              <a:rPr b="0" lang="fr-FR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(b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752480"/>
          <a:ext cx="8229600" cy="445464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182520"/>
                <a:gridCol w="731880"/>
                <a:gridCol w="182520"/>
                <a:gridCol w="655560"/>
                <a:gridCol w="2819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sumé d’é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formation requise pour combler les défaillanc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2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és recommandé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_____ j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ien évalu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871D-E8D1-4DD9-BF7D-38A0970B86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Évaluation des compé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228600" y="1676520"/>
            <a:ext cx="8610480" cy="464796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04920" y="1143000"/>
          <a:ext cx="8610480" cy="510840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447560"/>
                <a:gridCol w="1295640"/>
                <a:gridCol w="1218960"/>
                <a:gridCol w="2590920"/>
              </a:tblGrid>
              <a:tr h="835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e d’évaluation des compé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pital principal – Laboratoire de Microbiolo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â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ation 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des disques trop proches. Ré évaluation dans 14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émocul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ifug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plissage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ée donn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rreurs.  Lire le manuel et ré évaluer dans 10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ECD8-7F52-45F2-AAA3-61997F87D6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80880" y="1523880"/>
            <a:ext cx="396252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au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pécifique à une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à l’évaluation des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xemples: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visions des manuels opérato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vision des mises à jour du manu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rmation sur l’équipemen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Verdana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4572000" y="1752480"/>
            <a:ext cx="4267080" cy="48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au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ut ne pa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être spécifique à une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ut ne pa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être liée à l’évaluation des 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xe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é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lubs de rev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vues et litté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Form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MCBS00263_0000[1]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44" name="WordArt 20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4749-3A06-42A1-9437-5282DC1B27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E29C-894A-499B-AC3F-E2E5537FB26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99"/>
                </a:solidFill>
                <a:latin typeface="Verdana"/>
              </a:rPr>
              <a:t>Ressources de 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rsonnel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mité d’assuranc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firmier(èr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ath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des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pidémi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valuat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abric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ociétés scientifiq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ganisations de normalis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0010000[1]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ABA2-D77F-450D-9FD0-92CE26E1E0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uses d’une performance médioc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33520" y="1752480"/>
            <a:ext cx="3733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Personnelle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blème de san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uvaise compréh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nque de/mauvais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FC88-FD9B-4C0E-BA7F-DFBCFEF253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ques/géné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tractions sur lieu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rcharge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ientation médio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rmation insuffis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’évaluation des compé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lexités des échantil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S absentes ou pas va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S ambiguë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auses d’une performance médioc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4:47:58Z</dcterms:modified>
  <cp:revision>202</cp:revision>
  <dc:subject/>
  <dc:title>Slide 1</dc:title>
</cp:coreProperties>
</file>